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51D-3181-4AEA-BF47-A6180CF2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A4F-9187-4392-A4CD-8AFDE8A6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328-B150-456B-A16A-FB6E5F10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97D-5F57-4EA7-9544-79F9908D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F53-A87D-42FB-84B0-E51FFC44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F01-F4D1-4C7A-8285-A5E318DF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48A-8132-4582-9A29-05C2C1CE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4E0-2ACD-4B06-8C2C-E76F52DB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8C7-25C5-4A99-80B8-9978CA01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371-0AF7-4300-BF3E-9EB3330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5D0-359A-443F-A6CA-D3E6A44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BDC-9F6B-4FEA-9D7F-BDC8963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65AE-1BC6-4D35-9E06-4F157CF2A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e baut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s lovet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5/29/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rican d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 to be domi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n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ica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439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6964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708200"/>
            <a:ext cx="7619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lapi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7:51:26Z</dcterms:created>
  <dc:creator>Administrator</dc:creator>
  <dc:description/>
  <dc:language>en-US</dc:language>
  <cp:lastModifiedBy>int_lab_201</cp:lastModifiedBy>
  <dcterms:modified xsi:type="dcterms:W3CDTF">2011-05-12T18:32:16Z</dcterms:modified>
  <cp:revision>4</cp:revision>
  <dc:subject/>
  <dc:title>Jose bautista ms lovett 05/29/11</dc:title>
</cp:coreProperties>
</file>